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C58-BA88-44C4-BC2B-A51CF01C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061-CFDA-4E11-9134-F73A7BD7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EFB19-C0B8-458B-BC7D-BA95F53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C1054-0782-4018-A710-41B2D2F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B5120-FEC9-40ED-9525-1CFBF397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B88CC-C72F-43FB-AF26-EE36F86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7184-BF76-493C-8559-3586E8C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27C63-DEE3-4B2E-8723-3F60CC3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0AF90-BA7E-4165-A1E3-EF4E68A2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37772-2CAA-468A-98F8-8AFBB2E5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B010D-3C44-4D14-8B34-A948EB58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D4E18-9A26-4010-84BB-FB54FA0D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877-FDCA-4B16-8009-688BE4C9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BD973-B5D3-410E-BD21-2F7D0144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E8991-DF78-48F4-831A-337F60F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40A0B-5D86-4A9F-94CC-8A3B3C4E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C7355-C8BA-4E74-BC10-F5CE75F4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DF623-DBAB-49A5-83EF-698A6722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085AC-688C-4E2F-B889-93163EF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C8FA6-F0B9-4A4D-8D31-3F50C6B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6CE48-1164-47A1-961C-572FE6E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1C219-4012-4711-ABAD-87CB41AF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2E4F1-59F1-4F0E-B686-A0DF5B6C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A96-C535-4716-B8B9-27FDF908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471FD-B23D-4713-931C-041F7312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4157C-AD24-4CC4-B9D5-ABDAF606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7EB1A-C120-49E6-B648-A924D77B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23926-9800-49D9-B525-C0A8307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5EE94-4F70-4DDF-9A62-AC5D019B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5DDC0-60DF-4892-97C3-EC0D5B7C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434C-E882-499F-9CE4-F31B9DC1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79AD2-D173-47A4-8E13-973B854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55B4C-6B17-4B53-8C68-9D263C9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FBBC5-67C1-4180-AB57-81FC44F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0927-0499-4911-9E87-7F4A83FE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FC26-9336-4F4E-A503-7C739A1F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B9D55-ADEA-44C4-AE9A-368E8FB4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ACB4D-A917-41A3-BCA2-92D60560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5AFCA-4041-452F-94B7-617642F2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11533-507A-4DBB-8E82-A59A74A4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44003-6708-47ED-84C2-7963EB82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5E557-7E3E-4072-A09D-527E6E8E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C591D-3310-4BCC-B199-68A08E5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3BE3E-543D-423C-9134-7A5DDADB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5083C-71E0-4066-954E-0EBF30FD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681A-BEB5-4EDB-907A-1F94773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E295B-1C48-4EA7-B184-0A51A4F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4483C-4E55-4A1D-B098-D85B6F0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7761A-927C-48F0-9245-36FCC97E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4CCE3-1C53-40A7-B7B2-66196CE6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2B58C-2125-4AC8-892A-16DB0D94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E0438-9638-4FBE-9A1B-274BB75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0530D-9FCB-4451-9EBE-681CA216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BC4B7-2F33-4809-A24F-B107AB4B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76B0B-988A-4096-A96E-69975BB4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6E0FB-3B6E-40AD-BEF3-6F5C95F1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C33F-2A14-457F-A814-DC17D50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74FD2-748A-41D1-AAA1-91BEB0F7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17D5D-51A4-468B-8361-5122A847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7986C-FA87-4BF3-8580-80FB6A2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61472-B10A-415B-A4EE-363E0E1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09BEC-6A5C-41BD-868C-62506118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50EF0-01E6-4075-97F7-531F538C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224C6-4F9D-49C2-97B5-0BF0C9A4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18382-EB19-48DF-9F5E-F58B9BED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1F933-065B-484B-A529-CF56DADA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D0D63-898F-424C-B2D2-9ED9508D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33D2-5A8C-4384-8355-AAD94424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A64B4-E58C-492A-B246-79504593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94B4E-79F6-4FA5-A390-B21F03B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A7FC7-ABA6-4FC7-9B95-3F44330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75D22-E0E7-4C18-B565-01793C30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8DB73-4788-4BB0-A534-4520B8E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9FC15-0354-4AF1-9170-0AE7FBF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2777E-6B38-4BA2-9FA7-DAAF92A7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BE008-BFC9-4688-9B8E-12D0FF18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05FF0-35AE-4F39-BC8D-58B4D514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C816A-A719-4C16-8D8F-22867BE8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D70F-FE44-48DE-AB19-54F778A1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4B80C-B71D-40A8-A29F-E09836A3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C1817-500A-46A3-A941-8D62499A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E46F6-883E-4C5F-A21D-3A447D80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8D5E8-B2D9-4939-A266-418FB927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F8ED2-7DB4-486D-8A28-73950C55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54DC9-E887-4B93-A747-04BAB95A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F6F9B-9135-444A-AED8-A0D2473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FB8EA-55B3-41E4-BEDF-056BBB3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197CD-FFF6-4611-BEB5-A75C3A26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B6A80-568F-485B-88F7-29B1A9E9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181C-0294-4A89-885B-5FB96AED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B03A4-24E9-4213-B550-89E8EF45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52CD3-029D-4A20-894F-34826320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88FA2-DF4A-49AF-92E9-CA751482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0D8E1-AD9C-4327-86A5-C444AC8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94DAF-2320-484D-8220-B8C23B8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015B6-34B7-4AB9-857A-4E613AB4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3275C-DCB8-4DA6-BE21-E4812B70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64608-4422-4521-865B-7B1AD91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53DFD-51F9-46AE-839B-017DF8B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8E201-B565-4B31-8DB8-5B59E7F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95F6-B6A3-4ED2-9A67-4BB976F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92A5E-A32B-4B8F-B5A0-AC7A9AE3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1C727-1952-4A0A-98A0-5737771C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C78B5-9DF1-49EB-A342-90E095C7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A048E-8D3C-4BAE-947B-913E4A08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0B7A1-9F96-47A6-85BB-471CBCB0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E51E7-C9AE-4C28-ACEA-F88F4F23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1FFA2-358A-4DA3-B687-08E395A1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70DD1-ADC8-4B95-8D98-6E150D1E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5FAF5-7E00-4CC3-A7AB-BE27842B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A74A6-1DC9-435B-929D-B0B3ED4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A10-C86E-4774-8E0B-D11817CF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0B9-90E2-4E2E-A88A-5DB0D9C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59D5B-1CCE-43A9-B419-7B513F46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8B07FF-D12D-4ABF-9B63-1FA9561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AF400-488C-4078-BEA2-BA68715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E45B6-EF01-4081-97B3-1765FB50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F02C7-2EDD-438A-8CD6-504B7BCA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17B7A-446C-4B27-8958-1E6FF465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2DBCC4-8563-46F0-856A-9FEFCFE2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69FFD-2C50-4EA0-97D3-F1880CCE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AAA1C-9AE3-412F-9314-EAE280A9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B4BF2-48E8-4FE5-97F7-17F2E87C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2F9-7469-49C5-A19F-6686016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5E1D3-E040-4D13-B3E1-C0FE045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8319C-72EF-4551-8D0F-F453D931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17DAB-1D05-4D98-AE04-3675EDDE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AC344-EB17-42AB-81F5-9B49F71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93789-2929-4B22-8A98-5A79F3E3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2481E-0F0D-4801-9413-3A84391F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BBF33-5838-4151-8C5A-192CA728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BD4A0-7962-43D0-B642-A8E7642B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B78F35-C4DD-4015-8402-83C15BB5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43D9B-8226-4CD2-84F2-DCA8CD87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07D1-2630-494D-94EC-ED3517C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F82F4-E28E-4B35-AEBB-61B0559F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38B710-D16A-42D2-8654-8E9B154F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1F090-F074-4F71-AF6F-EE0405EE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06FE3-C92A-4A79-994A-A8C64005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8C857-63EC-4638-AA10-1AEEE1D2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13EC4-6C07-46EA-9E17-CCF74161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E9EE1-4356-4FE6-BEA7-E182A28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89AE5-B671-4BAF-9FAB-8F4EA04A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D1FAD2-A0DA-44CB-90A4-D64F8035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FAE2D-50A0-4151-9F78-0F8B79B8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35D5-58E0-4427-95FE-EFE97A9E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B41B3-62CF-45BF-871B-3919E86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13E354-CBAD-471B-9FD6-1DAB115A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31D3DC-EC8B-431F-8B66-EB592D7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9210F-870B-4FD8-947E-D8CAE43A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07D2A-D6AB-4217-94CD-058F954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08F44-D7B1-477B-ADE6-3B0B358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F6667-1151-461B-B84A-C7DD673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1FBAF5-F5AC-4D14-BBBC-5C7D80D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69624-EEBC-4653-B262-2A481AC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71F87-85D9-4505-B7D8-42E78FE2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DC00-1F51-42FE-9C94-6FA4BF89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8FE21-CC5A-4F3E-ADC0-D88272F0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77DD3-C456-438A-9C30-E1969483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E24EA-237C-4BDF-8EB0-EF803FEF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DED55-D6F3-49BB-8CCC-90A7DEAC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EEAB6C-BB78-4D03-B3FA-66E9DB2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6F5B4-DF1A-409A-ABEA-03434DF9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CEB0E-95C3-4AD6-B507-704FC682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87AF6-F8B6-4F22-8489-C1F664B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F5F011-B3A3-494D-9E2F-C25F7446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A6E9C-BC95-4409-896E-DE2BFA7D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30F4-ADFC-4C95-B65C-4371952A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BEE945-DB02-40A4-B719-1DF3167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CAA67-E674-45C4-B247-025D529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2F3F4-DA71-4628-B963-CA999E3E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D6D2-FC75-4566-9A0D-71B0D26C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07DF-D31F-45A1-82AD-0CB39660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8E9B-129F-430C-83C7-DC12DF37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2E4A-5649-4D4F-993E-C3E235BD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C6F-6ADA-45BC-AA05-EDA2B9BC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1456-7B2C-4050-88E2-1D5A93D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9AC8-1968-442C-B999-E795EBE9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F6E7-9578-4408-9C08-CC3041F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9F30-7147-49EC-8185-BC8571AE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5681-10DB-4F2E-A669-E6FE7E0A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0301-569D-4C85-815B-E305DAA2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5E59-E6A8-4850-9BCC-93C2F66A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EFF4-DDAE-4EA2-BE35-125E26B1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E0E0-18BD-4D36-98C6-BFCFB03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678B-0BAB-4B22-B223-CABBC551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BDF-2C06-4998-A4AE-EE109E45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C536C-870D-464D-A34D-DA96729B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FFED-C5B8-4F80-8981-472B0F03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750A-A2FD-4E34-AD39-A709D726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460F-2C5F-4054-9AE5-E659241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967B-1A0B-4582-9DDF-3FE16D2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C32D-5098-4547-AEDD-0F1DE356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6DF7-9D95-404B-8C08-40400510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E351-A1FB-4B94-8617-6F66F7D6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BF67-F7D1-45BC-A682-31952FD3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7894-E0ED-4342-B8D4-A0F97DE0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10E-9726-442E-8F5D-063B074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76D3-2EEF-42AF-A29F-44859FDB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A745-5269-47E1-B0FB-E414A695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AAEA-9AB3-48DE-9110-7F540F59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788C-06B2-42F4-877C-65AC8238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C1605-69ED-4AA4-9692-8A4632A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2F31-AD1C-4D54-B575-C2D974C1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6EC6-96A0-43B0-83C0-D246596D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22A0-9167-4C1D-935E-8E04A19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7026-0A04-482C-9301-52D500BD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2DE1-373F-4412-A902-FCAA5DD0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E46-1CF9-4A0D-9EC2-C2B94F87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CE27-ECDF-422B-B707-7C153F90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CE6E5-CF10-4B49-8D05-FC125CC1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9EA0-A035-42EC-9FE3-1708C90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AF96-C36D-4F06-A4E0-7FAF826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8A672-B1D0-4EEC-95B5-399DFAC4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232BB-5175-445E-B9B1-1EECB160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6232-78D9-4CD9-88FA-FCD43ED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125A7-5C34-494F-8B7A-DD2A58F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CD8D-DCA6-4CEF-BF5B-54F46A9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7CBC-83BB-447B-B232-160D9895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3FA-C6B3-42F3-B029-8EA8D15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3698-F750-426E-9C16-20106E94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AFF3-D06D-4765-A88B-A578E3A8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F9D0-F26D-4B73-B8E7-F22F44E9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67963-7908-48E4-BD1E-3989ADBF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68E9-66F3-4D9B-BC11-D361D406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57B88-9533-4CE9-A393-46226A7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0C28-6C99-4CDD-85C6-AFE2784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EDB0B-7418-4F9E-B88B-367C8B3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BDA1-4A07-42EA-BDCB-EC9496A7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AF804-3AA1-4E75-B5D8-E432AA2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E0C-3047-4682-A3AB-31AF997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A5E52-6F5A-44D3-8DB0-C2829C0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900A2-9589-4442-A84D-5E867CB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DD0D-BC0E-489F-A33E-18A3A93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CAB2-F865-485A-8BEA-9BF00349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3FA6-2BFE-49B5-A5DC-A2F45BEE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20C0-282D-49D0-A35C-20AF96B8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238EE-820E-4D97-BF18-8D1A31DB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9507E-1C72-4DB9-98BA-9F480F8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92218-D757-4D80-A9F0-E9F6AD1C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07221-3241-40CA-A5C8-0F7F288F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331-BF76-43B2-B2EA-195CD90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3DB40-899A-4110-A4A4-7F8305D6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3234A-9A3B-4F77-A53D-C6FBFD6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F5052-0873-49E9-A2E8-68C46ED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34FBB-5A73-4C0C-AB6A-72DCC25E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8DA2C-EEDA-49B0-9B1D-14623371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3A59C-AC08-4B3A-9FA1-839B4C50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ACA2-D7B8-483B-B0B2-E0BE60A9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C6642-D2AF-412B-B004-07031C3D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D27F5-2E5E-4226-991F-065B373D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28995-C0E5-4377-8A83-9EFD252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88F9-9181-4226-9A04-E86097C6C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FF14-AED8-4818-98C1-BD79A97B1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8BED-AC6E-4078-A520-D620FD390C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22F7-8EBB-4EEB-92D6-8BB23129BF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0EBC-3A0D-4F5E-A987-EF766EB11D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56A-6B78-48E7-9546-7D29930CF2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B006-CA1C-417B-9AC5-91CB3CA05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666F-4334-4FB9-A1AC-358C37BEDA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62A-BB68-4708-B597-380C2F0D7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E787-0FAD-4B08-A5A9-F182A4D9A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9F33-2324-4632-B102-0EE9F65454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6C83-0024-49F7-B594-A6CF3FB80B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D4FB-8E28-4A92-8D1D-C1018A0C2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1E9E-9A98-4DE7-9A4A-B289C2B334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7289-6600-4B96-8BE6-8514C7B51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BB3-B730-40C9-A096-36C69813E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853-C1B0-4C94-A563-2BD8B1556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2123-106A-4358-BAA0-3F22F5C114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25E-A2CE-418C-917C-62F03130AE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A2B0-6D7E-45F5-9457-51E1140A2F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0A3-681D-43A4-AFB5-5FF4A32D5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C681-C228-4622-AA88-30E40DA739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E758-8251-43F6-92A0-3580229B3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359E-45C0-4A24-9988-3BBE93E8F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1C83-A722-472D-B4C2-749893CED1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078-7B86-4597-BF7A-714CCFCA80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EA15-AC4F-4F07-8BE8-E7C8CBF85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93A8-E15E-4BB5-9AB0-4092671BD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A6C-EACE-416E-A5C0-2DD1DDDF1C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D9E-E011-4323-AC60-1EFDB19932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0A5-1B2A-4532-ADBA-C50D37142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8842-1A09-451C-85C9-BEC6A540B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B3B4-CBD7-44AD-B757-B4A5087DD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F3DF-2A5C-4349-9779-535B22C34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54CE-A704-4F81-940B-F61061325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A2F7-D2E5-4C32-91A2-4C0637305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6B6-29DB-4550-93A3-F769A2D8EC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A27A-DB31-468F-8BC9-99456D1FBA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5FFA-D021-4604-9DBA-57CDA1F68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8A9-A9A0-43F1-8B78-A8699AC0B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642960" y="2789280"/>
            <a:ext cx="7929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01000" cy="6048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692360" y="21272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692360" y="33512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692360" y="45752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692360" y="579924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3" descr=""/>
          <p:cNvPicPr/>
          <p:nvPr/>
        </p:nvPicPr>
        <p:blipFill>
          <a:blip r:embed="rId1"/>
          <a:stretch/>
        </p:blipFill>
        <p:spPr>
          <a:xfrm>
            <a:off x="519120" y="1085760"/>
            <a:ext cx="8105760" cy="5486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469800" cy="436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692360" y="299736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4"/>
          <a:stretch/>
        </p:blipFill>
        <p:spPr>
          <a:xfrm>
            <a:off x="1692360" y="4863960"/>
            <a:ext cx="4698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819000" y="1352520"/>
            <a:ext cx="7506000" cy="41529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1365120" y="1341360"/>
            <a:ext cx="470160" cy="436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403280" y="3213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1403280" y="44308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28480" y="971640"/>
            <a:ext cx="8087040" cy="5457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824040" y="1257480"/>
            <a:ext cx="7495920" cy="4743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76280" y="1057320"/>
            <a:ext cx="8191440" cy="5514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1979640" y="605160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4"/>
          <a:stretch/>
        </p:blipFill>
        <p:spPr>
          <a:xfrm>
            <a:off x="3851280" y="6062760"/>
            <a:ext cx="1441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914400" y="1614600"/>
            <a:ext cx="7315200" cy="3628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1692360" y="2225520"/>
            <a:ext cx="934920" cy="438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2987640" y="2225520"/>
            <a:ext cx="936720" cy="438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4284720" y="2225520"/>
            <a:ext cx="1366920" cy="438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5"/>
          <a:stretch/>
        </p:blipFill>
        <p:spPr>
          <a:xfrm>
            <a:off x="1908000" y="342900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6"/>
          <a:stretch/>
        </p:blipFill>
        <p:spPr>
          <a:xfrm>
            <a:off x="3492360" y="342900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7"/>
          <a:stretch/>
        </p:blipFill>
        <p:spPr>
          <a:xfrm>
            <a:off x="4716360" y="3429000"/>
            <a:ext cx="136836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8"/>
          <a:stretch/>
        </p:blipFill>
        <p:spPr>
          <a:xfrm>
            <a:off x="1979640" y="4684680"/>
            <a:ext cx="360036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685800" y="714240"/>
            <a:ext cx="7996320" cy="6143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3419640" y="600084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3"/>
          <a:stretch/>
        </p:blipFill>
        <p:spPr>
          <a:xfrm>
            <a:off x="4211640" y="5994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4"/>
          <a:stretch/>
        </p:blipFill>
        <p:spPr>
          <a:xfrm>
            <a:off x="5037120" y="5950080"/>
            <a:ext cx="471600" cy="436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5"/>
          <a:stretch/>
        </p:blipFill>
        <p:spPr>
          <a:xfrm>
            <a:off x="5900760" y="5950080"/>
            <a:ext cx="471600" cy="4363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6"/>
          <a:stretch/>
        </p:blipFill>
        <p:spPr>
          <a:xfrm>
            <a:off x="6732720" y="59594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7"/>
          <a:stretch/>
        </p:blipFill>
        <p:spPr>
          <a:xfrm>
            <a:off x="7547040" y="59594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3:3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